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E84-784C-43E0-9359-F61EF12D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3D2-4B6D-443B-8CD4-34277E34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31E-DBCB-4B43-A1D0-43E2B7CA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34A-11A2-4893-AD1A-C4047DA3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9D0-C77A-46BE-A488-D0ABB868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865-8887-40D7-84A4-3E9DA965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F2F-CB99-41FF-A15B-B57E64B7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691-9D68-4FD7-ADC0-427F0D70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EA3-CBB8-4B28-B3B0-103C5507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165-510C-4E72-B699-79DB6305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C24-02B1-4219-91C9-59715666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BB8-DF3B-4852-AA2F-142C8A5F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708E-5D55-44F1-81F3-23E308A3F8A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EXERCISES FOR MODULE TE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Exercises 1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200160" y="1300320"/>
            <a:ext cx="8943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ὐκ εἰμι ἀποστολ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ὐχι Ἰησουν τον κυριον ἡμων ἐβλεψ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κουσατε ἁ λεγω ὑμι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ἱ δ’ ἐκ των Φαρισαιων ἠκουσαν ταυτα και ἐθαυμαζον λεγοντες αὐτῳ∙ Μη και ἡμεις τυφλοι ἐσ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ὐ μονον δε, ἀλλ’ ἐγγιζομεν τῳ θεῳ δια του κυριου ἡμων Ἰησου Χριστου δι’ οὑ νυν την εῤηνην μετα του θεου λαμβανομε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λλοι ἐλεγον∙ Οὑτος ἐστιν ὁ Χριστος, οἱ δε  ἐλεγον∙ Μη ἐκ της Γαλιλαιας ὁ Χριστος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Δαυιδ λεγει ὁτι Μακαριος ἐστιν ὁ ἀνθρωπος ῷ ὁ θεος λογιζεται δικαιοσυνην χωρις ἐργων.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ολλας ἡμερας ὁ λαος ἠν ἐν Αἰγυπτῳ καθως ἐλαλησεν ὁ θεος τῳ Ἀβραα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ἠρνησατο ὁ στρατιωτης λεγων∙ Μητι ἐγω Ἰουδαιος 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ἐσμεν ἐν τῳ ἀληθινῳ, ἐν τῳ υἱῳ αὐτου Ἰησου Χριστῳ, οὑτος ἐστιν ὁ ἀληλθινος θεος και ζωη αἰωνιο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esus says to him, ‘I am the way, the truth and the life.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ilate was sleeping on the other side of the sea of Galile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ut what I wrote to you, I bear witness in the presence of G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 not be amazed because of this, because an hour is coming in which the dead will hear his vo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Exercises 3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2920" y="1143000"/>
            <a:ext cx="8943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εγεν δε ὁ Ἰησους∙ Ἀμην λεγω ὑμιν, πολλοι οὐκετι ἐχουσιν οἰκιαν ἠ ἀδελγους ἠ ἀδελφας ἠ τεκνα ἑνεκα ἐμου και ἑνεκα του εὐαγγελι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λην οὐτ’ ἀδελφη χωρις ἀδελφου οὐτ’ ἀδελφος χωρις ἀδελφης ἐν κυρι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διδασκεν αὐτους λεγων ὁτι Αὐτος Δαυιδ λεγει αὐτον κυριον, και ποθεν αὐτου ἐστιν υἱ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ὁ πολυς ὀχλος ἠκουεν αὐτ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ὁ Ἰησους ἐλεγεν αὐτῳ∙ Ὑπαγε. Και εὐθυς ἀνεβλεψεν και ἠκλουθει αὐτῳ ἐν τῃ ὁδ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ρχομενοι δε κηρυσσετε λεγοντες ὁτι Ἐγγιζει ἡ βασιλεια των οὐρανων.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θως θελετε λαμβανειν ἀπο των ἀνθρωπων, ποιειτε αὐτοις ὁμοιω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Exercises 4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31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 βλεπετε ταυτα, θαυμαζετε∙ ἐγγυς ἐστιν ἡ βασιλεια του θε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λλοι ἐλεγον ὁτι Οὑτος έστιν, ἀλλοι ἐλεγον, Οὐχι, ἀλλα ὁμοιος αὐτῳ ἐστιν. ἐκεινος ἐλεγεν ὁτι Ἐγω εἰμ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uring the Sabbath the brothers were sleeping but the sisters were  giving thanks to G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ikewise neither life nor death is outside of (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χωρι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od’s author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You have done these things well; go in pe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ilate was amazed because that man did nothing evil but healed ma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Exercises 5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357120" y="128592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rk 6.3-6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ὐχ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ὗτός ἐστιν ὁ τέκτω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uilder, carpenter, stonemas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υἱὸς τῆς Μαρίας καὶ ἀδελφὸς Ἰακώβου καὶ Ἰωσῆτ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oses (gen.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ὶ Ἰούδα καὶ Σίμων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imon (gen.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ὶ οὐκ εἰσὶν αἱ ἀδελφαὶ αὐτοῦ ὧδε πρὸς ἡμ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καὶ ἐσκανδαλίζοντο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were scandaliz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ν αὐτῷ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καὶ ἔλεγεν αὐτοῖς ὁ Ἰησοῦς ὅτι Οὐκ ἔστιν προφήτης ἄτιμ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ishonour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 μὴ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xcep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ν τῇ πατρίδ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omela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αὐτοῦ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5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καὶ οὐκ ἐδύνατο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was ab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κεῖ ποιῆσαι οὐδεμία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, none, no on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ύναμι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ct of power, mirac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, εἰ μὴ ὀλίγο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 few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ρρώστο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ick, ill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πιθεὶ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ying 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ὰς χεῖρ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and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θεράπευσεν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6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καὶ ἐθαύμανζεν διὰ τὴν ἀπιστία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nbelief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αὐτῶν. Καὶ περιῆγ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o abou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ὰς κώμ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illage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ύκλ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a circle, round abou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ιδάσω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5:41:51Z</dcterms:created>
  <dc:creator>Sarah</dc:creator>
  <dc:description/>
  <dc:language>en-US</dc:language>
  <cp:lastModifiedBy>Sarah</cp:lastModifiedBy>
  <dcterms:modified xsi:type="dcterms:W3CDTF">2008-09-08T18:46:25Z</dcterms:modified>
  <cp:revision>17</cp:revision>
  <dc:subject/>
  <dc:title>Slide 1</dc:title>
</cp:coreProperties>
</file>